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0E67-EB54-45AF-AB22-CABD5D22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71AD-E43A-4191-84DD-5348AEAF3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6F6-9BAB-44B3-A555-B6FDB7C7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820-02D3-4946-9AD3-09EA59F6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839E-D00A-4916-843E-75C5C1C0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318-5D27-4E41-81CF-773E612F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1692-532F-4ECD-A18B-650F4EBF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2145-C650-44CD-8757-2DFC3638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0F00-6E3A-4783-905A-327B22E3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E7E2-E38B-46D7-8ECF-31173A74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EA9F-3401-4B42-B63F-F3DD6BAB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D95A-1C52-4BE1-9E77-23BC78E7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3E5F-4B2D-40DC-9AE3-1F24DBBD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817-8EEC-4202-8DCD-DB3B8AB5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2423-8CDC-4EC9-B95C-4D58C492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520D-4E27-4EC0-95AD-807F7DE4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8075-2B3F-4BBD-A450-A707DD4E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105D-D799-4320-BC67-80DFE335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74E1-95E0-4D4E-830C-EB1FACFF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735-D38B-4F8D-BE23-78E06F9F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D16-FE6F-4F95-AADF-A9DF39C7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CF7-9F97-4059-A5A3-1A486B58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87A-E2E7-4543-AB2F-E3804FB5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7E9-4BEE-4BB9-A675-7D19C4AF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C39-B883-4E99-BB46-57B54C80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5B3-66AA-4803-81E0-5EC6ED68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1735-CF8E-434E-8EA3-D650B4880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AB54-7865-4317-AA3F-E8B938BB4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DISTRICT     AGRICULTURE DEVELOPMENT OFFICES IN MALAWI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8092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300" spc="-1" strike="noStrike">
                <a:solidFill>
                  <a:srgbClr val="000000"/>
                </a:solidFill>
                <a:latin typeface="Arial"/>
              </a:rPr>
              <a:t>CHALLENGES IN INTENSIFICATION OF AGRICULTURAL ACTIV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CHALLE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staff at field lev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rratic rainf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Dwindling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financial resources to implement field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WAY FORW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lead farm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drought tolerant intervention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cropping systems that help to increase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ncourage harmonization of programmes and resources to best implement  agric.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ZIKO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ffing Posi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7620120" cy="19936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636560"/>
                <a:gridCol w="1621080"/>
                <a:gridCol w="1619280"/>
              </a:tblGrid>
              <a:tr h="42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AC.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7"/>
          <p:cNvGraphicFramePr/>
          <p:nvPr/>
        </p:nvGraphicFramePr>
        <p:xfrm>
          <a:off x="3352680" y="7162920"/>
          <a:ext cx="5186520" cy="7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7162920"/>
                    <a:ext cx="518652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336666"/>
                </a:solidFill>
                <a:latin typeface="Arial Black"/>
              </a:rPr>
              <a:t>RAINFALL VARIABILITY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fall pattern is erratic in some parts of the distr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the mean rainfall for the districts in 2011/12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compar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last year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rly planted crops (mainly maize and legumes), face great damage and full recovery is almost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Rainfall cont’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Effects of Weather (rainfall) on Crop, Livestock   &amp; Fish Development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 germination and emergence causing continued replanting/gap f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/pasture establishment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fertilizer utilization and very difficult to achieve timely fertil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big differences in crop stages within or amon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achieve timely planting/transplanting and herbicide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ying up of p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the food situation for the districts is at around 9% (farm families without own food) compared to almost 1% same time last year (fig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d is available in most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co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Coping Mechanisms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nsecure households are surviving through the following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casual labour in exchange for food or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charcoal and fire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of other commodities like mats, vegetable and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ots and baskets with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duction figu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6761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ze production has decreased by 12% from 175,000MT in 2010/11 season to 153,000MT in 2011/12 seas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y spell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 soil fertility as a result of low input uptake.( FISP+ other soil fertility interventions to sustain soil productivi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02:08Z</dcterms:created>
  <dc:creator>Malon</dc:creator>
  <dc:description/>
  <dc:language>en-US</dc:language>
  <cp:lastModifiedBy>Admin</cp:lastModifiedBy>
  <dcterms:modified xsi:type="dcterms:W3CDTF">2012-10-02T16:40:55Z</dcterms:modified>
  <cp:revision>147</cp:revision>
  <dc:subject/>
  <dc:title>NTCHEU DISTRICT     AGRICULTURE DEVELOPMENT OFFICE</dc:title>
</cp:coreProperties>
</file>